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6FD1-FDD3-472E-9EA6-CBF074B2B6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00A-EC39-4E64-A0EA-DDA82A7B749C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9541-3EF0-4504-B6F2-B19B1F09C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DA07-E2B0-4E19-A32E-8E2159651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BFE1-9DE7-4F65-9911-99A0BEF7B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A206-AA3D-482E-B1F0-01D6EAD56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FE260-1A64-4819-B1E7-EF1BFA5457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82174-5F23-4376-9373-C09F586E8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44650-8864-43D7-97CC-1F6242D433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53DE7-0FD1-484E-A23B-6D59AD524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56CFC-F5CF-4D3E-9908-35248CBBE8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8FA76-B41F-436C-9794-CBE97432D1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3501F-FE97-45DD-A5CE-F8999D7EF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7124-3859-45A5-80F3-ED07AD7179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06220-46B7-40B1-B1BC-6BBE2326F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1149A-5E84-4165-993A-DFF335EA86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392D6-1C7E-4AE2-9790-70C1A76A5C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B8C3F-05C7-4EE9-A3B9-27979E7C76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BB134-CEF7-43F0-974E-A3B4753B83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9C23-3B29-43BB-B405-6538E9EFF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0C19-4705-49D1-97E6-2645BF4A7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E53D-CF67-4AF6-84C7-066995A25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60FF-78FF-408A-A6AA-C8169B359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9E55-79F0-4D98-B6BF-8967DC91E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43AC-4A14-4EBA-B20E-B55E054AC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FC97-6DEF-406C-9396-4684420C3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4A93B72-F401-41D9-86A8-4A6EA8AEC5B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7EF0DE9-16F7-44DE-B437-95651CD6D6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0EEFE29-2387-41FF-AB16-56ECC40F30B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55D0643-E7E4-45CE-81FE-E543A3E9ABD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9-01-24T10:29:08Z</dcterms:modified>
  <cp:revision>352</cp:revision>
  <dc:subject/>
  <dc:title>Exploratory Data Analysis</dc:title>
</cp:coreProperties>
</file>